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087-D14F-46C6-8649-318DD7C1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963-E979-49E2-86E8-889D63D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83E-DCD3-4083-A12A-77D6543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07B-EA84-4C52-A5F3-6204301E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762-39B3-4E89-9CDA-9CBACDD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90C-E719-4C0F-BAEB-EF381A4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00A-B96D-4531-911F-D935A9F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767-7469-4482-9410-FFDF5D25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3CF-B3D8-4814-998B-073B4E85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3D0-0F5B-4ABD-A087-B06123B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96C-947A-4160-BD77-52C33CB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9C9-2806-48D1-8D4A-1B850F1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A99A-680E-420C-97EC-F6B2F69B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8560" y="2781000"/>
            <a:ext cx="670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r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și administrare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ui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opunere pentru un nou subi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221000"/>
            <a:ext cx="2519280" cy="935280"/>
          </a:xfrm>
          <a:prstGeom prst="wedgeRoundRectCallout">
            <a:avLst>
              <a:gd name="adj1" fmla="val -12824"/>
              <a:gd name="adj2" fmla="val 143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1944720" cy="863640"/>
          </a:xfrm>
          <a:prstGeom prst="wedgeRoundRectCallout">
            <a:avLst>
              <a:gd name="adj1" fmla="val 80120"/>
              <a:gd name="adj2" fmla="val 21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iectul de disc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08720" cy="512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781360"/>
            <a:ext cx="1871640" cy="792000"/>
          </a:xfrm>
          <a:prstGeom prst="wedgeRoundRectCallout">
            <a:avLst>
              <a:gd name="adj1" fmla="val 95037"/>
              <a:gd name="adj2" fmla="val -26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uri pentru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573360"/>
            <a:ext cx="1871640" cy="935280"/>
          </a:xfrm>
          <a:prstGeom prst="wedgeRoundRectCallout">
            <a:avLst>
              <a:gd name="adj1" fmla="val 109712"/>
              <a:gd name="adj2" fmla="val -27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6480000" cy="51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149720"/>
            <a:ext cx="1943280" cy="1655640"/>
          </a:xfrm>
          <a:prstGeom prst="wedgeRoundRectCallout">
            <a:avLst>
              <a:gd name="adj1" fmla="val 91750"/>
              <a:gd name="adj2" fmla="val -31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faţi pentru ca membrul sa primeasca datele de acces p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n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unui memb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55600"/>
            <a:ext cx="7128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17080" cy="593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1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765000"/>
            <a:ext cx="2592360" cy="1152720"/>
          </a:xfrm>
          <a:prstGeom prst="wedgeRoundRectCallout">
            <a:avLst>
              <a:gd name="adj1" fmla="val -84967"/>
              <a:gd name="adj2" fmla="val 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esati pagina www.21clas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2852640"/>
            <a:ext cx="2376720" cy="1440000"/>
          </a:xfrm>
          <a:prstGeom prst="wedgeRoundRectCallout">
            <a:avLst>
              <a:gd name="adj1" fmla="val -21277"/>
              <a:gd name="adj2" fmla="val -73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pasati butonul Sign up for free pentru a crea propriul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4072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3213000"/>
            <a:ext cx="1655640" cy="863640"/>
          </a:xfrm>
          <a:prstGeom prst="wedgeRoundRectCallout">
            <a:avLst>
              <a:gd name="adj1" fmla="val 92759"/>
              <a:gd name="adj2" fmla="val -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Completaţi datele cer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437000"/>
            <a:ext cx="1655640" cy="936720"/>
          </a:xfrm>
          <a:prstGeom prst="wedgeRoundRectCallout">
            <a:avLst>
              <a:gd name="adj1" fmla="val 103018"/>
              <a:gd name="adj2" fmla="val -106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Numele blo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202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229360"/>
            <a:ext cx="1368360" cy="504720"/>
          </a:xfrm>
          <a:prstGeom prst="wedgeRoundRectCallout">
            <a:avLst>
              <a:gd name="adj1" fmla="val 106379"/>
              <a:gd name="adj2" fmla="val -4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lecta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365720"/>
            <a:ext cx="2016000" cy="647640"/>
          </a:xfrm>
          <a:prstGeom prst="wedgeRoundRectCallout">
            <a:avLst>
              <a:gd name="adj1" fmla="val 88111"/>
              <a:gd name="adj2" fmla="val -3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oduceti codul de secur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05360"/>
            <a:ext cx="2305080" cy="649440"/>
          </a:xfrm>
          <a:prstGeom prst="wedgeRoundRectCallout">
            <a:avLst>
              <a:gd name="adj1" fmla="val 100759"/>
              <a:gd name="adj2" fmla="val -636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asati pentru a merge mai de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555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2421000"/>
            <a:ext cx="1584360" cy="936720"/>
          </a:xfrm>
          <a:prstGeom prst="wedgeRoundRectCallout">
            <a:avLst>
              <a:gd name="adj1" fmla="val 68435"/>
              <a:gd name="adj2" fmla="val -36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irmarea înregistr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084640"/>
            <a:ext cx="1800000" cy="792360"/>
          </a:xfrm>
          <a:prstGeom prst="wedgeRoundRectCallout">
            <a:avLst>
              <a:gd name="adj1" fmla="val 88888"/>
              <a:gd name="adj2" fmla="val -1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ăsaţi pentru contin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129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ezentare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529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492280"/>
            <a:ext cx="1079280" cy="649440"/>
          </a:xfrm>
          <a:prstGeom prst="wedgeRoundRectCallout">
            <a:avLst>
              <a:gd name="adj1" fmla="val 71615"/>
              <a:gd name="adj2" fmla="val -38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7720"/>
            <a:ext cx="1403280" cy="718920"/>
          </a:xfrm>
          <a:prstGeom prst="wedgeRoundRectCallout">
            <a:avLst>
              <a:gd name="adj1" fmla="val 95134"/>
              <a:gd name="adj2" fmla="val -14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stionare co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076640"/>
            <a:ext cx="1763640" cy="720720"/>
          </a:xfrm>
          <a:prstGeom prst="wedgeRoundRectCallout">
            <a:avLst>
              <a:gd name="adj1" fmla="val -4365"/>
              <a:gd name="adj2" fmla="val -250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sonalizare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781360"/>
            <a:ext cx="1800000" cy="792000"/>
          </a:xfrm>
          <a:prstGeom prst="wedgeRoundRectCallout">
            <a:avLst>
              <a:gd name="adj1" fmla="val -65166"/>
              <a:gd name="adj2" fmla="val -608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izualiza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starea unui subi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2205000"/>
            <a:ext cx="1584360" cy="647640"/>
          </a:xfrm>
          <a:prstGeom prst="wedgeRoundRectCallout">
            <a:avLst>
              <a:gd name="adj1" fmla="val 79958"/>
              <a:gd name="adj2" fmla="val 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ditarea unui su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0:10Z</dcterms:created>
  <dc:creator>Emy</dc:creator>
  <dc:description/>
  <dc:language>en-US</dc:language>
  <cp:lastModifiedBy>Emy</cp:lastModifiedBy>
  <dcterms:modified xsi:type="dcterms:W3CDTF">2009-02-01T16:59:23Z</dcterms:modified>
  <cp:revision>5</cp:revision>
  <dc:subject/>
  <dc:title>Tutorial</dc:title>
</cp:coreProperties>
</file>